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pct" ContentType="image/x-pict"/>
  <Override PartName="/ppt/media/image8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F822-2D3B-43EE-A50F-A4C7EF4BB75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F796-3559-4923-90B2-538ACBD3F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tudents can customize their avatars to create an individualized virtual charac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udents take the role of forensic scientis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d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tudents use their avatars for pranking! Click hyperlink for 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udents enjoy using the system which encourages students to attend class regul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MUVE technology to teach other subjects besides b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interact through the forum and tutor one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A6D4-64DF-4CF2-8B98-B5DDC31C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3E11-2E70-4F32-9354-E92AEDAD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EBD-3A12-4910-BCB4-C9830345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FD6-1686-4421-BF45-68C3CE27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3F9-0753-40DD-B908-DAC2F642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C37-B1C5-41D7-9B51-A0A680B3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F1F-E7EF-4523-BE87-646E8E87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8D6-54D1-493B-9BA5-CF99F068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727-5FFB-4350-8A7D-A008AF5E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8AE6-D363-4D55-9603-EE8011DB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1B90-A051-4B59-8757-E0E15300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6D4-E418-4567-B197-36D1AF1B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EEFD-EACD-4D3D-B00E-B69A007943DD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2DC5-4C74-4182-ABA0-A6B93BA47F8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0" name="Picture 5" descr="C:\Documents and Settings\itlstudent\Local Settings\Temporary Internet Files\Content.IE5\51DWVBY5\MPj04140420000[1].jpg"/>
          <p:cNvPicPr/>
          <p:nvPr/>
        </p:nvPicPr>
        <p:blipFill>
          <a:blip r:embed="rId3"/>
          <a:stretch/>
        </p:blipFill>
        <p:spPr>
          <a:xfrm>
            <a:off x="1143000" y="1371600"/>
            <a:ext cx="7362720" cy="5105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971800" y="1752480"/>
            <a:ext cx="358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By:  Dustin Smith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1" descr=""/>
          <p:cNvPicPr/>
          <p:nvPr/>
        </p:nvPicPr>
        <p:blipFill>
          <a:blip r:embed="rId2"/>
          <a:stretch/>
        </p:blipFill>
        <p:spPr>
          <a:xfrm>
            <a:off x="457200" y="231840"/>
            <a:ext cx="8242200" cy="1152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multi-user virtual environ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online simulation of a geographical loc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students navigate an avatar around an environment similar to a SIMS game in order to lear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4" name="Picture 3" descr="C:\Program Files\Microsoft Office\MEDIA\CAGCAT10\j0195384.wmf"/>
          <p:cNvPicPr/>
          <p:nvPr/>
        </p:nvPicPr>
        <p:blipFill>
          <a:blip r:embed="rId3"/>
          <a:stretch/>
        </p:blipFill>
        <p:spPr>
          <a:xfrm>
            <a:off x="4952880" y="4114800"/>
            <a:ext cx="2438640" cy="2489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Leading educational MUV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Created by several professors from a group of universiti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Virtual Reality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students gather data to determine the cause of health crisi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udents work through their avatars to interview inhabitants of an 1800’s river town and explore the geographical terrain to determine the source of the medical problem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students are able to interact with other students in other school systems to develop a theory for what is causing the disease in River C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10000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-Not All Fun and Gam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parents are skeptical of the technology because they are unsure to what extent their children are interacting with other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controls are setup to monitor chatting and email activ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professors monitor the chat areas to ensure there are no inappropriate activities going on inside the chat room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ome children may not have access to a computer at their hom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teachers help these students find access to the internet at public librari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teachers help these students find access to the internet in computer labs on campu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242560" cy="1328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Students introduced to Whyville technology showed improvement in biolog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after the study, students showed a 32%-35% increase of knowledge of biology using the Whyville technolog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dents learned inquiry-based learning by using the technology based on their responses to how and why the disease spread throughout the commun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bsenteeism decreased after integrating Whyville into lesson pla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advTm="4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open internet foru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students used Whyville to learn how disease sprea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interactive, avatar driven environ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2286000" y="373392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-Teacher as the guid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teachers are guides rather than answer giv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teachers become more proficient at inquiry-based learning and teachers teach students by allowing them to ask and answer their own question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tudents learn to teach themselves and each other by interacting within the virtual environ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3"/>
          <p:cNvSpPr txBox="1"/>
          <p:nvPr/>
        </p:nvSpPr>
        <p:spPr>
          <a:xfrm>
            <a:off x="1066680" y="685800"/>
            <a:ext cx="662940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808080"/>
                  </a:solidFill>
                  <a:miter/>
                </a:ln>
                <a:solidFill>
                  <a:srgbClr val="c0c0c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Rockwell"/>
              </a:rPr>
              <a:t>Why I Would Use Whyville</a:t>
            </a:r>
            <a:endParaRPr b="0" lang="en-US" sz="2400" spc="1" strike="noStrike">
              <a:ln w="12600">
                <a:solidFill>
                  <a:srgbClr val="808080"/>
                </a:solidFill>
                <a:miter/>
              </a:ln>
              <a:solidFill>
                <a:srgbClr val="c0c0c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Rockwell"/>
              <a:ea typeface="Rockwel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38080" y="2209680"/>
            <a:ext cx="74678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encourages inquiry-based learning, which is essential for teaching bi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forces students to discuss problems and ideas within the virtual world and elicits class discu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References 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spcAft>
                <a:spcPts val="1599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aisdell, M. (2006).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ducational gaming: all the right MUVEs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Journal.  Retrieved February 2, 2010. &lt;http://thejournal.com/articles/2006/09/01/educational-gaming--all-the-right-muve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ttp://www.youtube.com/watch?v=xcNP7xjWKk4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ww.whyville.co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23:19:35Z</dcterms:created>
  <dc:creator>itlstudent</dc:creator>
  <dc:description/>
  <dc:language>en-US</dc:language>
  <cp:lastModifiedBy>student</cp:lastModifiedBy>
  <dcterms:modified xsi:type="dcterms:W3CDTF">2010-03-10T23:32:10Z</dcterms:modified>
  <cp:revision>15</cp:revision>
  <dc:subject/>
  <dc:title>Learning in Another World</dc:title>
</cp:coreProperties>
</file>